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96275"/>
        <c:axId val="54523821"/>
      </c:barChart>
      <c:catAx>
        <c:axId val="83396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23821"/>
        <c:crosses val="autoZero"/>
        <c:auto val="1"/>
        <c:lblAlgn val="ctr"/>
        <c:lblOffset val="100"/>
        <c:noMultiLvlLbl val="0"/>
      </c:catAx>
      <c:valAx>
        <c:axId val="54523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96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7C7F-6CCF-4BE5-9844-EA66D8B2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185-265C-409D-8E9A-420E665D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899-AAA2-4C9D-84D2-4A49AE97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D37-9C60-47AD-80F0-82926FFC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0CA7-70AA-4C2D-AA98-A4D730E2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ED9-5864-410E-95B9-8DC2DCAD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18A-4C6E-4F5C-A990-033C89AD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C4B-E1C2-4B6F-8477-B77885A8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1A9-0127-4C12-8B63-58AB426A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190F-7085-4B67-A15F-1DD68A0B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0C1-260A-4808-AFF4-BDF47A90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3402-23DB-4123-AC1B-CEB209E2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5EF19-034C-4EF1-B76F-F00BA2D602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