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17459"/>
        <c:axId val="30845738"/>
      </c:barChart>
      <c:catAx>
        <c:axId val="58817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45738"/>
        <c:crosses val="autoZero"/>
        <c:auto val="1"/>
        <c:lblAlgn val="ctr"/>
        <c:lblOffset val="100"/>
        <c:noMultiLvlLbl val="0"/>
      </c:catAx>
      <c:valAx>
        <c:axId val="30845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7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64A-9209-476D-B470-708705B8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DF0-0663-439B-B256-4AC0E23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211-FBCA-4079-921C-9ECAA3EC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E9A-74D3-4627-80D5-702414DA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1C4-767A-4CE6-9CF9-769018A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F4B-5621-42AF-BE6D-9AF095F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DC2-BCD3-429D-90AC-104CCC6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CF8-E3E4-470B-879E-343C9AE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0F8-52D8-42BD-A7F1-C5C2E8C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9ED-F1C4-4822-8421-21AEB5D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7A4-9DD5-4B30-AE0C-BE625BC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0A4-FD92-482F-B257-DA96BFC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450C3-EE53-4F7A-AA9B-AF527AEA6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