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456426"/>
        <c:axId val="86920243"/>
      </c:barChart>
      <c:catAx>
        <c:axId val="81456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20243"/>
        <c:crosses val="autoZero"/>
        <c:auto val="1"/>
        <c:lblAlgn val="ctr"/>
        <c:lblOffset val="100"/>
        <c:noMultiLvlLbl val="0"/>
      </c:catAx>
      <c:valAx>
        <c:axId val="869202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56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E2E1-F1B2-4F97-987D-FDBE8A2A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18A-79E3-4D1E-9616-6EDC2AB6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4D5F-828F-4CA7-831A-13A0B21E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3BE-61CD-4FB0-A155-81FAD470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3EB-EC37-491F-9DE2-455E144F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E5B-47F8-4770-8261-189291BD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42D-567F-4D00-8CB3-407837E4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F6E-2D79-44FF-A9BD-60BE19CA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E66-86B2-48E7-BB02-5DFDABE5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D41-7B7C-4B0D-A0DF-F1636CA6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30A-A07B-4BBE-9F59-35E43FC8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DCD-1857-4148-B455-538D36C4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ECD90-4F37-4E8E-B2E8-376077515D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