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50222"/>
        <c:axId val="75936381"/>
      </c:barChart>
      <c:catAx>
        <c:axId val="27850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36381"/>
        <c:crosses val="autoZero"/>
        <c:auto val="1"/>
        <c:lblAlgn val="ctr"/>
        <c:lblOffset val="100"/>
        <c:noMultiLvlLbl val="0"/>
      </c:catAx>
      <c:valAx>
        <c:axId val="75936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50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7C6-3FFA-4862-8E74-A71EBC7F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A28B-4B55-47CE-A4BC-0F349DF0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C56C-982D-4ACD-A6B3-791322AD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5765-F44C-4C86-B7AC-A3307A28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B367-7738-4A95-AE15-893BA09E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F69-67A0-428B-A6CB-518FEA7D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C92-B894-4BBF-B441-C8E22194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6C0-5598-4DFE-B2B0-5A4CB7EF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ABF-A795-46D7-BB2F-3E336560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019-17E1-4002-BC65-58808768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4EE-0028-45C8-87AF-45566917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A89-3A4D-4776-81B9-BCAA7A08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9F36A-7FDC-41B9-A0FE-1D5AE7A47E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