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07836"/>
        <c:axId val="8664563"/>
      </c:barChart>
      <c:catAx>
        <c:axId val="631078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4563"/>
        <c:crosses val="autoZero"/>
        <c:auto val="1"/>
        <c:lblAlgn val="ctr"/>
        <c:lblOffset val="100"/>
        <c:noMultiLvlLbl val="0"/>
      </c:catAx>
      <c:valAx>
        <c:axId val="8664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078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19C-AA54-43FA-BE5D-614D0AEE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A813-0D75-4357-8F73-7D735582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40B-F880-481E-8C9C-058A3FAB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CE0-17FE-4E9E-BAD9-0BF1E263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3F0-E0AD-4C05-8295-B8C491E7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D196-FC74-4E70-95E3-7E641B96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7EB6-2283-4C81-B4D0-67732179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A34-7FB5-48E1-941C-2924E52A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77D-F41E-47B5-B9F4-425E6FBA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56C-5FE1-43F3-A108-04CCA9EA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D48-DAD9-4A2A-BF34-D2255CB9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D93-06EF-49FC-A2DA-64179469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0A0B5-8A48-4AEE-80EB-EFB6A06080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