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850397"/>
        <c:axId val="34038312"/>
      </c:barChart>
      <c:catAx>
        <c:axId val="878503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38312"/>
        <c:crosses val="autoZero"/>
        <c:auto val="1"/>
        <c:lblAlgn val="ctr"/>
        <c:lblOffset val="100"/>
        <c:noMultiLvlLbl val="0"/>
      </c:catAx>
      <c:valAx>
        <c:axId val="340383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503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015F-3A24-4674-B11B-3554B0B8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C1BA-8403-484A-965B-B5AB93B2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3AB7-4432-4031-AF04-5B531A57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56DA-B7A6-4A07-BDF3-7B6022AF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ED50-3003-4F24-B78C-7E8881F8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14E4-8534-48D5-BC31-6931F7E3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F605-5470-4A7A-9E03-70534F68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930-DAF5-4C7C-84DF-77C39C81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8C7C-425A-4D50-B0DC-A10F7A1C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F83F-769D-40B4-9F94-8821F5D8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813-BF18-47EE-8E16-4A3B632B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6D92-B93F-4200-A8F5-FAFEE9CC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2F21D-D3ED-47A0-907C-C62A778B4A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