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06499"/>
        <c:axId val="16415124"/>
      </c:barChart>
      <c:catAx>
        <c:axId val="70406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5124"/>
        <c:crosses val="autoZero"/>
        <c:auto val="1"/>
        <c:lblAlgn val="ctr"/>
        <c:lblOffset val="100"/>
        <c:noMultiLvlLbl val="0"/>
      </c:catAx>
      <c:valAx>
        <c:axId val="16415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6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21D-A96E-4861-8FDE-9B6FEFF7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77-EFE4-40B9-BE86-C9C3FED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75E-E961-47F6-934A-1AB932D6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FA1-423B-48C4-98EB-AC2AEDDC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37B-FC91-4450-87A8-434C19C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147-277E-4412-80E3-2C4ECB2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BAA-7F29-481C-8C16-4C3F432B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C11-AFB4-48D5-A230-636091E8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088-E391-41F3-94B5-B56EED2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E2A-D62E-418A-A914-3453755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593-39C2-4888-A982-C991698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252-C336-4213-910B-DDDE80D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8B6D5-0BE5-4048-9E63-5A0C523A49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