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59928"/>
        <c:axId val="43545348"/>
      </c:barChart>
      <c:catAx>
        <c:axId val="86459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45348"/>
        <c:crosses val="autoZero"/>
        <c:auto val="1"/>
        <c:lblAlgn val="ctr"/>
        <c:lblOffset val="100"/>
        <c:noMultiLvlLbl val="0"/>
      </c:catAx>
      <c:valAx>
        <c:axId val="43545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9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FBD-54A8-4C6A-8B72-E6B9C16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2AE-61FC-4AF5-A7B3-4F9B58A8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FCF-F653-4EC2-80F9-74E07B3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63B-88DB-4A8C-9A7B-258E59E8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FD4-7A40-446C-AB47-222289D0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F74-EA7E-4830-B00F-D56EDB6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199-B949-44B2-A03F-F20DC0C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ACF-7325-4D87-947F-1EC09769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316-6BD2-415D-A274-AA525E79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1FB-4B79-439B-8D7E-7B978498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047-71F9-492C-A961-B5CE2DC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52F-1663-43F7-8277-ECB1960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44BEB-CE18-47CD-884F-DCC2D01BC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