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31480"/>
        <c:axId val="42745989"/>
      </c:barChart>
      <c:catAx>
        <c:axId val="53631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45989"/>
        <c:crosses val="autoZero"/>
        <c:auto val="1"/>
        <c:lblAlgn val="ctr"/>
        <c:lblOffset val="100"/>
        <c:noMultiLvlLbl val="0"/>
      </c:catAx>
      <c:valAx>
        <c:axId val="42745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1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9FE-F41E-4076-867F-B566BBDD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F13-3367-4E93-9F71-1473EA8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7E3-04B9-4F1C-837E-9D038627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6D2-A2A5-41C3-BBF4-87C2DFDE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2C7-575D-4EA7-8806-C62015A4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768-727D-4445-A1B3-ECEA0DF9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F48-3C9D-4BD0-A49F-4BEA102C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45C-108F-48A7-9EFB-3C1B0194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A69-A863-4303-BB90-DA9D75FA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CCD-6FCD-40E2-84AD-21E5CB15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7B2-A886-4253-9208-DBB037F8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5C9-4902-4FD6-ADD6-4695589F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27CC3-D34E-483C-A3E0-7AE9FA5A7F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