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19057"/>
        <c:axId val="35904463"/>
      </c:barChart>
      <c:catAx>
        <c:axId val="42519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04463"/>
        <c:crosses val="autoZero"/>
        <c:auto val="1"/>
        <c:lblAlgn val="ctr"/>
        <c:lblOffset val="100"/>
        <c:noMultiLvlLbl val="0"/>
      </c:catAx>
      <c:valAx>
        <c:axId val="35904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19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79F-E3B0-4C7F-B6F1-7F6E03BD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045-F3B8-4B6B-8F71-01071823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C8D-6E31-4F2A-88CF-165FDB60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A29-6054-4232-86D6-478CDD46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014-AB31-4A11-9241-3B9562E1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F7F-E9E8-4673-B618-6E91798A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504-AFBA-4BCB-B1CF-5682EC18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D97-041E-4F72-9FFB-43DCCF7E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0D5-DD67-4EF4-84E3-CAB1FA57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AFA-1485-4E8E-A66F-502B7B8B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FDD-1767-4BB4-B8A2-69198AC0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FEA-AC7B-424F-8C0B-5479549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8BA76-783D-465E-8433-A7AFF13D97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