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57191"/>
        <c:axId val="35463215"/>
      </c:barChart>
      <c:catAx>
        <c:axId val="10757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63215"/>
        <c:crosses val="autoZero"/>
        <c:auto val="1"/>
        <c:lblAlgn val="ctr"/>
        <c:lblOffset val="100"/>
        <c:noMultiLvlLbl val="0"/>
      </c:catAx>
      <c:valAx>
        <c:axId val="35463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57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0C1-7584-43AB-AB50-90312BE5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C32-2EE6-4319-82A0-BF431BC8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5A0-1562-424E-8DCD-48FA1319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64B-84F0-49CB-BCFD-67EBAA29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A03-ED41-4924-B051-25211671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F3F-88A6-4933-AD92-8DEF94F7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9B8-5E2E-4C7A-9DBA-CE88476B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93B-D603-4B42-9888-35E7B016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B80-6E60-4505-A07F-181E93DD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93B-1D8B-4FF6-A024-67B9DEFA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E84-77A4-4F84-9CFA-9CC2490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D40-B793-4B5F-B598-1E95570A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5040B-15FD-422E-A6BF-45D89FC3BC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