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759191"/>
        <c:axId val="42522307"/>
      </c:barChart>
      <c:catAx>
        <c:axId val="80759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22307"/>
        <c:crosses val="autoZero"/>
        <c:auto val="1"/>
        <c:lblAlgn val="ctr"/>
        <c:lblOffset val="100"/>
        <c:noMultiLvlLbl val="0"/>
      </c:catAx>
      <c:valAx>
        <c:axId val="42522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759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96DB-EF94-4917-A922-D3F141F1A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5D92-A30B-40A0-B629-B710E774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D7D-A758-4EB6-AAEC-4090A7C3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C824-DC37-40E5-8FF7-2B80E503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6C46-649A-43C5-B019-7A8E6D11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762-8097-4295-8132-E6019B3C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656B-8D84-40F6-9DA8-F5AE0D41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E1A-1B79-4812-B9AE-08EF08D4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F33-2D38-4BA6-A9FB-D370ADDA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8D4A-35FD-4E92-AE0E-FCA17DB2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A878-AF0F-4FCE-8DE1-251526BF9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5522-1299-479A-AEAB-CE621C5B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20A99-7633-45EE-BF85-21DC3FF569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