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24390"/>
        <c:axId val="12112260"/>
      </c:barChart>
      <c:catAx>
        <c:axId val="12724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2260"/>
        <c:crosses val="autoZero"/>
        <c:auto val="1"/>
        <c:lblAlgn val="ctr"/>
        <c:lblOffset val="100"/>
        <c:noMultiLvlLbl val="0"/>
      </c:catAx>
      <c:valAx>
        <c:axId val="12112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24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719-AA69-4B21-8828-4E7E378C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0F0-2792-4C7E-BCF5-1F16C3DE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350-EEF3-46A2-9EF6-29E16610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F1A-5067-4BC5-B9B3-4C776255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CD4-C9BD-4CF0-B33B-29B0F39C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C6B-28EC-483B-8DFD-1E3DC0CC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E68-07F0-49C0-832C-D56E407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2D9-E7E9-4DF5-BE7F-8DA8F4F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CC7-B6EA-498B-BB90-CB25A108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7F8-923C-480E-92FB-5F20E32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BE-94BF-4565-AEA5-B6762318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80E-6F7D-477B-B364-A5704A9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C8304-97F1-4F0E-9C67-9AE405DDE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