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0804"/>
        <c:axId val="54528220"/>
      </c:barChart>
      <c:catAx>
        <c:axId val="1120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8220"/>
        <c:crosses val="autoZero"/>
        <c:auto val="1"/>
        <c:lblAlgn val="ctr"/>
        <c:lblOffset val="100"/>
        <c:noMultiLvlLbl val="0"/>
      </c:catAx>
      <c:valAx>
        <c:axId val="54528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0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DC8-C0BE-4928-A305-9046AE5D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957-4AB1-41A9-AA16-E5B0C13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351-D622-428D-BD2C-64DA2D34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B7A-EA77-4222-BDF9-9F5C3A7A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7D8-1C96-4F63-839F-8CBA0C18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292-5A0F-4E0B-B0C2-5C113739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2A9-272B-4FEF-BF8B-957FBC8D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E26-16B0-4927-B8CA-6B919FB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BDF-07CA-4D26-AAD2-08BD06F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9A0-FE31-487B-BBA8-2DD7F4B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C7D-6135-4D9B-BAED-8DEF579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C3F-48A1-443C-9E9C-25CFEAD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E98D-0390-4B27-B148-4288E19F4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