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567746"/>
        <c:axId val="91701319"/>
      </c:barChart>
      <c:catAx>
        <c:axId val="155677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701319"/>
        <c:crosses val="autoZero"/>
        <c:auto val="1"/>
        <c:lblAlgn val="ctr"/>
        <c:lblOffset val="100"/>
        <c:noMultiLvlLbl val="0"/>
      </c:catAx>
      <c:valAx>
        <c:axId val="917013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5677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DDD0-88A8-4AE4-B036-3C6A4A85D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758E-B791-4F80-B339-5DEB31952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FA10-D699-4431-8C81-51746FE89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6BDC-851C-4AA2-AB83-1A77ED331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E893-AD69-41D2-9A79-A8BA04FA9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A706-1723-49DD-8400-FABE73B21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1116-305E-4DCD-BFB5-AC9B26391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1AC3-3D23-43FE-8A3E-71112CFB8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793A-11E8-46F6-807C-0EBC8683F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F677-0E00-452C-BF5D-11256D705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460E-25B1-49F0-8058-EDB8DEA1E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2E7B-81F0-4C08-A4A7-B13A82BE0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A7F14C-E344-4BD1-A558-CFC4CE9CDEE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