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10575"/>
        <c:axId val="62220080"/>
      </c:barChart>
      <c:catAx>
        <c:axId val="34610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20080"/>
        <c:crosses val="autoZero"/>
        <c:auto val="1"/>
        <c:lblAlgn val="ctr"/>
        <c:lblOffset val="100"/>
        <c:noMultiLvlLbl val="0"/>
      </c:catAx>
      <c:valAx>
        <c:axId val="62220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10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596-5D62-48BD-9631-05DF2047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9EC-AB81-456E-B7C8-048BC17F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149-4FA6-4C8B-B8B1-C121280B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998-7D37-40CD-9857-A1AA9F6B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868-5935-4835-977E-226546D1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E3E-A36F-46CB-9E4C-E567DA6B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975-7705-4EAC-AC5E-26D22A16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2A9-AC2A-4715-B04D-A3F24C67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331-F4DA-4586-A087-73819B69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988-CAA6-463D-B572-6FBB7CB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ED8-8EA1-46DF-8F42-C4C7DE6C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2D3-C73B-47FD-B9BF-83DF2023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A2C3B-4994-47BE-A7CE-C03D8782E4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