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93910"/>
        <c:axId val="76735050"/>
      </c:barChart>
      <c:catAx>
        <c:axId val="78993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5050"/>
        <c:crosses val="autoZero"/>
        <c:auto val="1"/>
        <c:lblAlgn val="ctr"/>
        <c:lblOffset val="100"/>
        <c:noMultiLvlLbl val="0"/>
      </c:catAx>
      <c:valAx>
        <c:axId val="767350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3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9E7-3C80-4EFD-B38B-0FA03B15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2C7-3DD6-4ACD-A6F7-DAD5E73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44F-8DC4-4D68-ADC9-DBDC5354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1CC-ADE8-4A61-89E0-3B1B9076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BCF-3A7F-47BC-A1E1-0E05A7F7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22F-510E-4F21-A311-9E276C5D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2E1-D311-4BA6-AB65-EB70CE6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CAC-1AA9-4B02-9489-F2B15761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778-7ED2-4D87-961A-89C3DA7C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EB7-3EB5-431D-9A1A-FDA7AE0D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1FF-C4D3-4980-9CE4-D49B6ED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00F-F593-40DD-A589-76AEF2E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6D949-5E82-4F34-AA01-A9F2B75CA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