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21158"/>
        <c:axId val="69377826"/>
      </c:barChart>
      <c:catAx>
        <c:axId val="280211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7826"/>
        <c:crosses val="autoZero"/>
        <c:auto val="1"/>
        <c:lblAlgn val="ctr"/>
        <c:lblOffset val="100"/>
        <c:noMultiLvlLbl val="0"/>
      </c:catAx>
      <c:valAx>
        <c:axId val="693778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211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AF91-B073-4408-8C52-B028291D4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D47-1543-40FF-8443-A153418DA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FB35-C4EB-4592-8261-1E8E44C16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04C6-2EE5-4F38-B6EA-660BDDD8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D91-6660-4034-8B41-F8811C3E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207-3D0F-416F-9D97-CD8C2454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19D2-0CC2-45BB-9CAF-4E16F4CAE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110D-EFBD-466D-A71B-AF8B7EB7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3CE-24CD-4A14-8F47-B260C685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75F5-0596-4773-889E-5DE28F46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F25-6602-4845-AA79-F6967356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C518-E0F8-442F-8B61-4E5702D7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545C8-9EEC-42D2-85A0-58DA3C8C6D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