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06964"/>
        <c:axId val="12050910"/>
      </c:barChart>
      <c:catAx>
        <c:axId val="88906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50910"/>
        <c:crosses val="autoZero"/>
        <c:auto val="1"/>
        <c:lblAlgn val="ctr"/>
        <c:lblOffset val="100"/>
        <c:noMultiLvlLbl val="0"/>
      </c:catAx>
      <c:valAx>
        <c:axId val="12050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06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20A-854F-4EE8-9675-DA727168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62B-AFAC-4980-ADBD-9E9A694D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54A-D46E-4F36-B76E-54556880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6E0-0945-4ACF-93AD-69C421F5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6FC-2C40-4AC6-BB45-9998C5F5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35B-95E3-40E0-8C80-A7277167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4C8-D75A-412B-9FDE-49E448FC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90D-C453-4242-A132-39DA7361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AE6-9B65-49BA-9BDA-6E950E02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C2F-B5D4-4E2A-952E-27292657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51D-1242-43B7-A3D1-A73B8666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000-72E2-4D91-8906-2D4339E5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FC36C-D156-4720-A71A-CA82E35EF5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