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36693"/>
        <c:axId val="91480500"/>
      </c:barChart>
      <c:catAx>
        <c:axId val="78836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80500"/>
        <c:crosses val="autoZero"/>
        <c:auto val="1"/>
        <c:lblAlgn val="ctr"/>
        <c:lblOffset val="100"/>
        <c:noMultiLvlLbl val="0"/>
      </c:catAx>
      <c:valAx>
        <c:axId val="91480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36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873-9B3A-42D7-BDA0-CDB961E4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2A8-389B-4093-AA32-1FC76CB4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2DC-30FD-4519-8A12-B75DC5F8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621-BF87-40E7-A4B5-94145E2E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F58-6B21-4BF4-9BAA-FFE188F5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621-9E46-461B-8B49-85E25CA8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9C4-1389-4176-9075-502CF2A5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97E-4FE2-4829-9533-F2EA2AC2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087-C046-4E56-8FA8-D018412E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5E4-1E87-4D79-904D-1C689D0C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403-28A1-4779-85AE-CE2A22D1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800-34D3-4018-8771-AB89000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CAA5D-1BBE-40D6-88A0-F1FC20B62C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