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79207"/>
        <c:axId val="73967066"/>
      </c:barChart>
      <c:catAx>
        <c:axId val="875792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67066"/>
        <c:crosses val="autoZero"/>
        <c:auto val="1"/>
        <c:lblAlgn val="ctr"/>
        <c:lblOffset val="100"/>
        <c:noMultiLvlLbl val="0"/>
      </c:catAx>
      <c:valAx>
        <c:axId val="73967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792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3961-C934-406C-AE5E-2F672AE8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F9A3-116F-4659-8377-7EF66FFF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A3B3-439D-4079-8EF2-7FDA8F36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9B9-519A-460F-AF43-CDFE4979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1A4C-21DD-46F9-9B0C-17B15FDD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ABE-691E-4A36-A5B9-2046B3B8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563B-F965-42AB-95C5-ACF54BA5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22B0-502E-45E7-B97C-B1CD8148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8D1B-598D-4AD4-9501-D44099B7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B28-9859-4DEF-B49E-F560699A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E0E-DADE-448C-9148-55EEB29B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34C-D649-4FA5-88BD-FD85C228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6ABE8-BBD9-4A0F-A1C2-65E48B5B8F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