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945771"/>
        <c:axId val="33216838"/>
      </c:barChart>
      <c:catAx>
        <c:axId val="479457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216838"/>
        <c:crosses val="autoZero"/>
        <c:auto val="1"/>
        <c:lblAlgn val="ctr"/>
        <c:lblOffset val="100"/>
        <c:noMultiLvlLbl val="0"/>
      </c:catAx>
      <c:valAx>
        <c:axId val="332168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9457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7BC1-823A-46A8-AC7D-8B60069EB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066C-EC41-4060-9787-53AD52ED6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EF1F-62EA-4A78-897E-6A5A792F8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ACE0-77DE-4233-ABF6-5798D0093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8A71-D0E9-40A3-B916-5D1197869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C3DF-F083-4D75-BCCB-9DC7431F5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DC74-AACA-40FF-A6E4-0C5E928EC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7FE3-9BD6-446F-8CB7-234813B8F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7A23-370F-4A02-A53D-ED8B20F5B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0508-CC9E-4E30-9EDB-12699498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3198-A30C-4741-AAB7-CB47AF135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F18F-C675-4CC9-8EB8-F6E2E823B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FA8F96-CDE0-42B0-856D-A8983B0ABB6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