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24740"/>
        <c:axId val="28165164"/>
      </c:barChart>
      <c:catAx>
        <c:axId val="228247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65164"/>
        <c:crosses val="autoZero"/>
        <c:auto val="1"/>
        <c:lblAlgn val="ctr"/>
        <c:lblOffset val="100"/>
        <c:noMultiLvlLbl val="0"/>
      </c:catAx>
      <c:valAx>
        <c:axId val="28165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247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2A5-53CB-498A-A61E-A41A691E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273-E582-4152-AB88-EB8D491F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498-840A-466D-98E2-4721EEC9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319-62A7-43D8-B507-BD623FCB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CB4-E96F-4D2F-95E9-FCFFB2D7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BB1-70CF-427F-9F55-3756D617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EC1-DE34-49B0-B445-7B614345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430-C539-47F0-885B-53DA477C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2D5-398A-4CE9-9D87-8BB8E5B4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292-1FB8-43D4-82A8-12D5D39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B60-6721-49E0-9EEE-5541BE50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611-9EDB-417E-9BA1-1243D32D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2E619-E6E7-4AA1-8CEB-40E7624D3B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