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16212"/>
        <c:axId val="46165838"/>
      </c:barChart>
      <c:catAx>
        <c:axId val="83216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65838"/>
        <c:crosses val="autoZero"/>
        <c:auto val="1"/>
        <c:lblAlgn val="ctr"/>
        <c:lblOffset val="100"/>
        <c:noMultiLvlLbl val="0"/>
      </c:catAx>
      <c:valAx>
        <c:axId val="46165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16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CAB-0260-48A6-8C54-ACE4A39C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2F3-1870-45F2-8770-F68BA830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5D1-1DF1-4219-A83C-3F84540B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796-B107-483B-B662-D37AC963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618-A6CA-4834-B912-AE5E8713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B2B-E27B-459A-90EE-9AF79E94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55E-0355-4C54-90B1-AA16DB04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032-EAD5-4762-AE2D-4ED9336B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B5E-0092-43BD-8225-ACB0BD4C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B2C-66D4-4142-8633-D34FCD13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A3F-563B-4803-904A-87FF3570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DBD-F34C-417A-B494-18810A60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99682-681D-48E5-9176-7A231FEC7B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