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00362"/>
        <c:axId val="52194884"/>
      </c:barChart>
      <c:catAx>
        <c:axId val="74200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94884"/>
        <c:crosses val="autoZero"/>
        <c:auto val="1"/>
        <c:lblAlgn val="ctr"/>
        <c:lblOffset val="100"/>
        <c:noMultiLvlLbl val="0"/>
      </c:catAx>
      <c:valAx>
        <c:axId val="52194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00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C09-88ED-444E-812C-05D290AA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9E0-22E4-4377-B9D3-E0CADEBD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782-965D-4FBC-AA8D-38415CB5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5CE-0D81-44F8-9A6D-E2460B45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75E-C79A-4197-BEE1-E316B920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C06-D097-4D09-8DCB-69483F26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99C-A174-42E4-AEEB-87C150FE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2A7-F837-4F20-9A47-8CC3BA5A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7B2-7699-4912-8E9B-95BB4AA1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57E-966A-4884-ABDC-EE541418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DC8-4BEB-4112-A905-AD340084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EC7-83FB-4660-A160-BA01325C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C1DE2-F3F2-47C5-8142-CF305D0BE5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