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71848"/>
        <c:axId val="55700728"/>
      </c:barChart>
      <c:catAx>
        <c:axId val="38371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00728"/>
        <c:crosses val="autoZero"/>
        <c:auto val="1"/>
        <c:lblAlgn val="ctr"/>
        <c:lblOffset val="100"/>
        <c:noMultiLvlLbl val="0"/>
      </c:catAx>
      <c:valAx>
        <c:axId val="55700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71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E3F-CF64-49C6-A6D9-0A174A8E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AF5B-9AFD-4D2E-8CD3-3FDB52FE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7E4-00B7-4334-BEB1-9D83F139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2D0-3A27-4151-A941-20788B56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44E-F8CE-4921-91EF-8B4EFADE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84C-B1D1-40EF-B699-BB8F07AA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361-9C97-4281-A725-1BF07030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2F0-BFA0-4D93-A7F2-EADCAAEF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578-0BBC-42A6-AA86-57AD0B1A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4DC-63DA-4B3B-A47A-31AE25AF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C07-23A0-4E5D-8A7B-10F958C2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AE5-B170-46AC-ABCD-D968ABCD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A4A07-F698-4D0E-8625-8D75938456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