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34052"/>
        <c:axId val="63138840"/>
      </c:barChart>
      <c:catAx>
        <c:axId val="26834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38840"/>
        <c:crosses val="autoZero"/>
        <c:auto val="1"/>
        <c:lblAlgn val="ctr"/>
        <c:lblOffset val="100"/>
        <c:noMultiLvlLbl val="0"/>
      </c:catAx>
      <c:valAx>
        <c:axId val="63138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34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AD3-6AFB-4847-921A-7C65D04C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2CD-6FE3-4D43-B8AD-1700DCA4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4F3-3430-4F9D-A2FE-787B68B7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E40-514D-4370-ADBE-5FAB1747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4AC-E5CB-4780-83CF-499FDB2F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0D1-A732-46A3-8A25-5C5E2F46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44F-585A-4123-9783-E301C91F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EE4-FADC-46FD-BB9E-5EA90E32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04E-3C12-42FC-85EC-341AF7E9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F93-5EF0-4749-90EC-E3143937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64A-77CD-4698-8096-5D9DE969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A39-E72E-484B-A038-2068B821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3AF5F-B83F-4BC0-8A1F-D023AEC8A4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