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50661"/>
        <c:axId val="86129886"/>
      </c:barChart>
      <c:catAx>
        <c:axId val="48750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9886"/>
        <c:crosses val="autoZero"/>
        <c:auto val="1"/>
        <c:lblAlgn val="ctr"/>
        <c:lblOffset val="100"/>
        <c:noMultiLvlLbl val="0"/>
      </c:catAx>
      <c:valAx>
        <c:axId val="86129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50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248-3F51-4DBB-9C07-19D86867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FFC-3C22-4335-AE37-20EBE819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C84-A343-4CC9-BF51-3C76D607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FAF-7F3B-4CB3-B6A2-84FF2FCD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8F5-F9A1-4AFA-8E56-C302AC2E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908-CD5A-4A81-A672-9C29956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A6A-B8EF-46D0-ACD5-101F7DAF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116-A433-45F6-A668-72CD275D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513-7D35-4C7D-B46C-578675C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D14-934B-401A-8649-524FA26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950-AFF2-4F95-91E3-014DD99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CDF-409A-48B8-B5E4-E1820CFA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A8929-CE23-4FBD-9FD0-8570BCB5B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