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82739"/>
        <c:axId val="28289863"/>
      </c:barChart>
      <c:catAx>
        <c:axId val="14782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9863"/>
        <c:crosses val="autoZero"/>
        <c:auto val="1"/>
        <c:lblAlgn val="ctr"/>
        <c:lblOffset val="100"/>
        <c:noMultiLvlLbl val="0"/>
      </c:catAx>
      <c:valAx>
        <c:axId val="28289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82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83C-A344-492B-B4EF-396F3109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F64-C8D4-4A6F-8C2B-14B1A9A1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93F-CB85-49C3-B6DA-9536BB30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607-B3EE-4402-BDE2-B455538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283-5571-4580-886F-2FCE329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EF7-3013-44D2-822B-9EE6E799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76C-5EC0-4133-AAF2-FEF2882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EDA-C320-40A9-8D84-F00CEE9E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623-BBA2-4B1A-8621-9AEBA494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79D-5C47-43D2-9EB8-651629AF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0B2-BEEC-40B5-B958-6E9B2E1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7BD-017F-40F4-AEA1-24099A1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096B5-BC2C-4510-A8E3-D85A59329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