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74715"/>
        <c:axId val="64436016"/>
      </c:barChart>
      <c:catAx>
        <c:axId val="97474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36016"/>
        <c:crosses val="autoZero"/>
        <c:auto val="1"/>
        <c:lblAlgn val="ctr"/>
        <c:lblOffset val="100"/>
        <c:noMultiLvlLbl val="0"/>
      </c:catAx>
      <c:valAx>
        <c:axId val="64436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74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56B-C119-44A1-B427-55395598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57C-8546-4DC8-BA03-EDB312C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85B-BE58-4907-A8B5-B9B749FD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BE0-E66B-45B7-B1C5-431DBE73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5DD-2A80-4306-A39B-58ACADEA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A46-463E-4AF4-8641-E1B5A414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20F-AF9C-4D3F-BB99-B899DD6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BC2-8C51-42F1-8B2F-0C752C2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AD0-7675-4421-9E43-26D6981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8F1-747F-463C-9FD6-30337BD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5AC-3C43-4F18-9294-26305D6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937-83AC-4AFF-8815-AB57ECAB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4A372-EED2-48B9-8B7C-730AFEB9D7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