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629449"/>
        <c:axId val="78927395"/>
      </c:barChart>
      <c:catAx>
        <c:axId val="226294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27395"/>
        <c:crosses val="autoZero"/>
        <c:auto val="1"/>
        <c:lblAlgn val="ctr"/>
        <c:lblOffset val="100"/>
        <c:noMultiLvlLbl val="0"/>
      </c:catAx>
      <c:valAx>
        <c:axId val="789273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294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DA34-1AC7-4246-AE96-276FAB9D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C476-D8A9-40F6-A3B3-00BA49F7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7947-4FAC-4B81-B6F5-83454FFA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22FD-F6F1-4B89-92B1-B43D7878D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1E27-A77A-414B-A174-FF7B6F72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8CD2-E811-4A4D-9C42-CD7E34FA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1922-E3BB-4300-A2A1-D10B7C5D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6AD2-E6A0-4853-8FE8-33791D1B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337D-9369-4D97-A98B-EE2F5862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CDA5-67D1-4FF9-9D25-1FFF3A05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DE91-75A1-4869-B36C-8A8751D6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53E3-88BF-40EE-B2F0-1E5C0B67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418D7-359D-436C-8504-CFEBE0AFAD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