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939832"/>
        <c:axId val="20822653"/>
      </c:barChart>
      <c:catAx>
        <c:axId val="909398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822653"/>
        <c:crosses val="autoZero"/>
        <c:auto val="1"/>
        <c:lblAlgn val="ctr"/>
        <c:lblOffset val="100"/>
        <c:noMultiLvlLbl val="0"/>
      </c:catAx>
      <c:valAx>
        <c:axId val="208226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9398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4081-272C-46ED-8C74-E171A47B7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8E7D-44D3-41F7-AB46-CC1F35712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BD5D-6976-47B0-ADBC-8DBB20209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DCCC-8759-444A-9733-63300B604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5FF8-D66B-4163-9BC7-C6DCD379B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B0A9-C6E2-4105-A75F-19C5939B5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3560-4605-44BD-B8F6-68BA7059D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367E-0BC5-4FDA-BCEB-BC695A698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FE89-25E9-400B-8737-E6C489CF6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93BA-2B37-468F-91DF-750D3B17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0F3F-F32F-46FA-BC71-3B5B516A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C25E-F719-4E4E-A9D7-765777EA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AE8AE9-E996-4F17-8122-3034618EB58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