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587721"/>
        <c:axId val="54772433"/>
      </c:barChart>
      <c:catAx>
        <c:axId val="455877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772433"/>
        <c:crosses val="autoZero"/>
        <c:auto val="1"/>
        <c:lblAlgn val="ctr"/>
        <c:lblOffset val="100"/>
        <c:noMultiLvlLbl val="0"/>
      </c:catAx>
      <c:valAx>
        <c:axId val="547724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5877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6108-5EBD-4C4E-ABA1-D07049EDD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1855-EF5F-4EDB-8DF7-BD418DFB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6594-600B-44CB-B63A-E42721FEE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C37D-77FD-4AB4-929B-307B26A1E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FD0D-C83D-43BC-BA27-CD030938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C049-11C9-4841-B62A-95521641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1456-FE7A-4FC0-BE7B-62C037D1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776D-A345-4BE8-A6FB-06EBFAD6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78B2-2C13-4F0F-B5C1-440752AC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3A3E-1F00-4F7D-B0C1-F82121FD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F2BB-55D4-40E0-B717-CB095CD5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F14D-33D7-4A35-9B1C-86D7CB0F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2B481-A078-4433-A913-B2B2D14B8C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