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26530"/>
        <c:axId val="74111126"/>
      </c:barChart>
      <c:catAx>
        <c:axId val="20326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11126"/>
        <c:crosses val="autoZero"/>
        <c:auto val="1"/>
        <c:lblAlgn val="ctr"/>
        <c:lblOffset val="100"/>
        <c:noMultiLvlLbl val="0"/>
      </c:catAx>
      <c:valAx>
        <c:axId val="74111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26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F0E-20FE-4036-B2D8-4CC88A82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70F-7E0E-46F9-9FCD-15473A74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825-D98D-484C-AC4C-FE36B397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565-C9D2-4D99-AD81-1EBF360E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077-A1F9-4219-8110-F52904D4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106-D717-418D-BBAB-D9421DD6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9BE-E495-4895-9E35-F46FFA08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3D5-B430-4E4F-88A4-01D4D753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119-F6DE-4D1C-800D-D0B2947B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BEC-C213-4B39-A183-46B4C44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1EB-9DFA-496F-81E2-FF1E05B6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FC2-1070-4843-A585-AFEA660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C650D-A7E5-4CE4-8B27-D992DBAE87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