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66891"/>
        <c:axId val="21074242"/>
      </c:barChart>
      <c:catAx>
        <c:axId val="59766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74242"/>
        <c:crosses val="autoZero"/>
        <c:auto val="1"/>
        <c:lblAlgn val="ctr"/>
        <c:lblOffset val="100"/>
        <c:noMultiLvlLbl val="0"/>
      </c:catAx>
      <c:valAx>
        <c:axId val="21074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66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9F0-80E1-4E75-AABB-38261777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8FD-7D35-4828-B056-262E5787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EC9-7517-4798-84AF-FE08E4E5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2BA-8092-4D16-815C-6720351C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48E-3004-44D0-9B7A-454B0542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F17-9254-42E9-9359-014C15CF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D1E-B987-4D17-BAFC-1491B115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06E-70DB-4797-B495-7DB31499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E1C-2945-4D34-BE4D-FE8BD6A6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02C-B707-4FCC-8348-0A70C558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F7F-DF03-4345-8291-1C4A1011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070-4FCB-49DF-B60D-D13ED43F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65AB1-1B74-4518-A22A-D8D5FD1BBD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