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69660"/>
        <c:axId val="39319493"/>
      </c:barChart>
      <c:catAx>
        <c:axId val="12669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19493"/>
        <c:crosses val="autoZero"/>
        <c:auto val="1"/>
        <c:lblAlgn val="ctr"/>
        <c:lblOffset val="100"/>
        <c:noMultiLvlLbl val="0"/>
      </c:catAx>
      <c:valAx>
        <c:axId val="39319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69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930-4EE6-4443-AF00-CA73E2B8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141-2889-429B-8843-7634420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046-EABE-43E7-B6A7-678660A2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CAC-B3D7-4BEC-91EB-E9C4D252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A7F-CE72-4745-948A-F118445E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05A-9F36-4074-A6FF-BBFEBAE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61F-9887-4DBE-A944-B034A00B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4E6-B0D8-4433-A09D-41D6B1A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687-79DE-49E4-9E6A-967BF8E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C95-445F-4261-9810-1A15E1D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515-96C3-402F-A40A-7A383953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712-AE23-4FA1-B577-21A719EA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1D7A4-08AF-444A-9391-87BA975C8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