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708063"/>
        <c:axId val="84473983"/>
      </c:barChart>
      <c:catAx>
        <c:axId val="537080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473983"/>
        <c:crosses val="autoZero"/>
        <c:auto val="1"/>
        <c:lblAlgn val="ctr"/>
        <c:lblOffset val="100"/>
        <c:noMultiLvlLbl val="0"/>
      </c:catAx>
      <c:valAx>
        <c:axId val="844739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7080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BAD5-B33A-4E15-9DE9-7F061158A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B063-D105-41C0-B840-53B76B0E1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ABA6-D333-4415-870B-8D3BF640C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DD9F-1F2D-4861-89B4-DA8D5BC3B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F94C-28DE-4051-80D5-51D5C36C0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1C0C-4FC6-4DAA-8FDC-BF2C5AF6A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A8FC-1B12-4B42-BB67-36AD52EAE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8F92-587B-4A4A-9EDA-B1F4ADFD7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1AA6-7471-4EC3-A05A-75437BC7C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E3DE-2AFB-4C26-AEFE-39F62E55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8BBB-246D-4958-82D3-DBC309D2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817E-A780-40B7-8736-5893C9C0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3F7295-56F2-47E7-999D-E1D5588F45E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