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51703"/>
        <c:axId val="26381923"/>
      </c:barChart>
      <c:catAx>
        <c:axId val="498517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81923"/>
        <c:crosses val="autoZero"/>
        <c:auto val="1"/>
        <c:lblAlgn val="ctr"/>
        <c:lblOffset val="100"/>
        <c:noMultiLvlLbl val="0"/>
      </c:catAx>
      <c:valAx>
        <c:axId val="263819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517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A6A4-954D-444E-943F-A0D313B4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2EC-41FB-44C8-839F-72E5AB58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7E7-74B8-44B5-9939-1709EE29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C19-A791-491E-8F20-D753911C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A255-3C4F-4961-B86F-39B7AF79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1E3-B971-41B6-A0DF-A34D1834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A4AC-B90D-4AA5-A3BF-EC38608A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334-3F91-453E-8F42-F00B3294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4727-9B87-4F9F-ADC8-C05F1707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0984-6DC3-412F-A790-3D01BB29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A86F-1B8A-4EC6-BB71-03824E68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746-7AC4-47B2-932B-00595540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91A0F-0C4D-4D1C-97CF-C5D009B1C5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