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47581"/>
        <c:axId val="94878552"/>
      </c:barChart>
      <c:catAx>
        <c:axId val="82147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78552"/>
        <c:crosses val="autoZero"/>
        <c:auto val="1"/>
        <c:lblAlgn val="ctr"/>
        <c:lblOffset val="100"/>
        <c:noMultiLvlLbl val="0"/>
      </c:catAx>
      <c:valAx>
        <c:axId val="94878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47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99B-2C5C-430B-8624-001B39EB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D48-A9E8-4FB5-95BE-4CD8D79D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AAC-6DBF-4B9F-B63C-DA3125EB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3E3-9481-4025-83EF-FB24E427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311-34EC-498B-90C6-CB435D48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0FA-41B4-47BE-911F-1EE6020E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F7A-6DDF-4085-97B2-FB4EE08E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9CE-F5AA-4EF6-AFF7-6238D85A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29B-6EDB-4A3C-8EB8-89374FA9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BA2-892D-4E3C-B440-812FC6A1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CF0-03B3-4C10-B4E6-5076CF25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3F2-9626-42FE-BCC5-34F03DE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B2B25-5F11-492F-8AAF-79CB1548E4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