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94451"/>
        <c:axId val="74416464"/>
      </c:barChart>
      <c:catAx>
        <c:axId val="76794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16464"/>
        <c:crosses val="autoZero"/>
        <c:auto val="1"/>
        <c:lblAlgn val="ctr"/>
        <c:lblOffset val="100"/>
        <c:noMultiLvlLbl val="0"/>
      </c:catAx>
      <c:valAx>
        <c:axId val="74416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4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072-4551-42AB-8264-C4D6B0DD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BCB-E80B-4A27-9237-DBAC408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2A6-44AD-4563-8BF1-4114DD19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4DC-233B-4335-9CFF-5CD2065E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D5A-C0DA-44D8-9C1B-64D34F2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6E5-FFA5-45BB-845A-1D51EB9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F37-5F35-4B97-9AEC-CAC7B73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15B-7721-4B6D-896A-F5652DC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5C5-01B9-4C39-80B7-66A3EB34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B4-BF08-419E-8E0E-DBB5F34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53B-D537-4658-8530-24D39AF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9E0-3742-4167-95E0-CB971C8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4C31A-535E-4053-9BB0-7AF0A37DB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