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59220"/>
        <c:axId val="26131222"/>
      </c:barChart>
      <c:catAx>
        <c:axId val="13659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31222"/>
        <c:crosses val="autoZero"/>
        <c:auto val="1"/>
        <c:lblAlgn val="ctr"/>
        <c:lblOffset val="100"/>
        <c:noMultiLvlLbl val="0"/>
      </c:catAx>
      <c:valAx>
        <c:axId val="26131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59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C0D-4B0B-4515-9B25-EFDA6F7C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ECB-86DC-438D-A3C4-4C3C363C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708-FEE9-441B-AB15-CE5047DC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B84-A70F-4BD1-A850-A4E60683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7DD-D68A-4643-AF17-3413EFBC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678-366B-4ED0-9A30-D2002399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F47-8E4D-48D4-9D7F-C2870A94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425-9C5C-4537-9370-9E9B297A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58A-77E1-436A-B28A-1062B7E1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C64-D83C-4F7E-9F09-C5F3FDC9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7FE-3760-40BD-AC0F-8B93F22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F37-60E6-41FA-85DC-DCADF255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3CD80-0D88-4F0F-8C42-5889734195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