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978"/>
        <c:axId val="77295499"/>
      </c:barChart>
      <c:catAx>
        <c:axId val="311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95499"/>
        <c:crosses val="autoZero"/>
        <c:auto val="1"/>
        <c:lblAlgn val="ctr"/>
        <c:lblOffset val="100"/>
        <c:noMultiLvlLbl val="0"/>
      </c:catAx>
      <c:valAx>
        <c:axId val="77295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1C2-3613-49A3-8D3B-4BDD0907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FAC-B737-4103-9B0F-27ECA1E2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194-2479-4C65-BF38-B4D87322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100-9C7B-4777-93C2-7E187F2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470-D54D-4B0B-8223-A5D4C78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284-20AC-4EA6-A469-362524AA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455-248B-4F61-903E-3732A54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CE6-EF09-413E-9327-E8FCC0D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342-8C20-46F8-B093-0D9B660B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0E5-21FE-46E9-9B4E-3691F6E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71D-72A6-498F-90F3-F9812D7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322-147A-4128-9238-14D2314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ED193-8F0F-4091-B104-92B8AA32EA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