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26778"/>
        <c:axId val="71529776"/>
      </c:barChart>
      <c:catAx>
        <c:axId val="12926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29776"/>
        <c:crosses val="autoZero"/>
        <c:auto val="1"/>
        <c:lblAlgn val="ctr"/>
        <c:lblOffset val="100"/>
        <c:noMultiLvlLbl val="0"/>
      </c:catAx>
      <c:valAx>
        <c:axId val="71529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6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5E2-3674-4A1E-8E20-6DB665FF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021-D03B-4974-BC69-357070D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ECC-9456-4E63-BF69-C88BB108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5CB-3038-4654-A268-8383B783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BD2-A4A8-494D-B2F8-FFC15FF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23D-6CB4-4C78-8DC7-2D686F2E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F94-63F0-4042-A832-88AE855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975-CE5B-44D7-A223-CA76AF7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71F-4D28-48D8-8EB0-E6E1038B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970-0A9F-44C7-B0E1-7A7DB57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5C2-9369-4AA7-A4CF-5BFDB52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80E-2D22-4A8D-8670-6E554B4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3220E-EB98-44B2-BED9-A985532B3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