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26145"/>
        <c:axId val="79408890"/>
      </c:barChart>
      <c:catAx>
        <c:axId val="52026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08890"/>
        <c:crosses val="autoZero"/>
        <c:auto val="1"/>
        <c:lblAlgn val="ctr"/>
        <c:lblOffset val="100"/>
        <c:noMultiLvlLbl val="0"/>
      </c:catAx>
      <c:valAx>
        <c:axId val="79408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26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5CF-5689-4B44-BE7D-8D471736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39A-5991-4132-B65A-69F6E326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699C-BFDE-49E8-85AA-E2B11408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471-2B49-47E0-8756-55D27D18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BDE-B1C2-497F-A414-04C4F684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F8E-7EDA-4AF6-98EC-928419CD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E52-43DF-45A1-88F9-897EF27B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A64-D075-491A-99E7-2ED4BBDD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278-C88B-472F-BAF4-DF679AF2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B72-C878-4835-A5B1-A3464A3B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F1A-7DA2-4D3B-9F41-36DAF94A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3DB-62A7-4EF8-85E3-6D1CA5CC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CEE8A-93E2-4DF6-9DEB-5EBD8D60A6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