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489200"/>
        <c:axId val="15176005"/>
      </c:barChart>
      <c:catAx>
        <c:axId val="304892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176005"/>
        <c:crosses val="autoZero"/>
        <c:auto val="1"/>
        <c:lblAlgn val="ctr"/>
        <c:lblOffset val="100"/>
        <c:noMultiLvlLbl val="0"/>
      </c:catAx>
      <c:valAx>
        <c:axId val="151760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4892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BF9A-7BDD-4DBC-8207-EEE3A8E7F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3256-15EF-4443-8E0E-4C619C158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097D-3E8B-47A9-8881-651017B06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6669-8AC1-42E5-995A-C4F0BF799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3D17-1273-422C-BD9B-97034F389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4418-25D6-4F52-98B0-F677F4B5F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F6E1-64F0-4D8E-AFCD-8AED7E8D1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BC74-601F-4DCB-9F7C-7053D9FC6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6133-0A7C-4070-A379-C030D5EA0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8261-697E-4756-BF90-61350132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CD50-6EAA-47E1-BFCF-D7457C82D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389C-F9EC-46CE-A6E7-B636A89CD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7BCCED-BA10-4D14-8690-AADB4485E83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