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357"/>
        <c:axId val="10296489"/>
      </c:barChart>
      <c:catAx>
        <c:axId val="810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96489"/>
        <c:crosses val="autoZero"/>
        <c:auto val="1"/>
        <c:lblAlgn val="ctr"/>
        <c:lblOffset val="100"/>
        <c:noMultiLvlLbl val="0"/>
      </c:catAx>
      <c:valAx>
        <c:axId val="10296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D8B-D262-4823-84DA-25F5AB99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9FB-9781-4153-8763-F6583A4F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905-59FD-433B-8992-EFDCF821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651-854D-4321-9F9A-3A6A23B2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853-27D8-443C-A6B0-82ADEEBA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46D-DA53-4497-ACFA-080156DB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487-DAA0-4B0F-92B4-35FF85A4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F56-BADA-4AAD-82E7-9C5F9947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A6E-0403-489E-9D1E-A94A604F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4B9-4BB9-4663-BDF1-87B6200F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3C9-62E7-4D96-9DE9-DCC3543C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CD7-A855-4712-BFEC-2C32CD96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86E48-93D1-48B2-B1F4-F9D46E79EB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