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84789"/>
        <c:axId val="17874388"/>
      </c:barChart>
      <c:catAx>
        <c:axId val="77284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74388"/>
        <c:crosses val="autoZero"/>
        <c:auto val="1"/>
        <c:lblAlgn val="ctr"/>
        <c:lblOffset val="100"/>
        <c:noMultiLvlLbl val="0"/>
      </c:catAx>
      <c:valAx>
        <c:axId val="17874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4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7A0-02BA-4136-A84B-0999ECCC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42A-1CCD-4F7F-BEEA-C3F0ABBF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0F1-5018-4429-87C9-9597E55C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CC8-7894-4F06-BC97-B7C2810B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211-DA55-4705-A934-4C73C23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78C-531B-43E6-990D-88C0589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0B2-5E40-4731-ACC6-B9B998D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AAA-929B-4DE3-A5BF-8A2EB2C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9A0-C683-4772-887B-8ABE2E6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884-9F98-4633-A7C5-26F508A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FD0-7B0E-4A3F-889A-3DD5903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C53-D5F3-4EB5-9ED5-175F3B3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01C1C-D094-43C3-8CB0-7905087C04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