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57433"/>
        <c:axId val="93327897"/>
      </c:barChart>
      <c:catAx>
        <c:axId val="45157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27897"/>
        <c:crosses val="autoZero"/>
        <c:auto val="1"/>
        <c:lblAlgn val="ctr"/>
        <c:lblOffset val="100"/>
        <c:noMultiLvlLbl val="0"/>
      </c:catAx>
      <c:valAx>
        <c:axId val="93327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57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DF7-8960-4ACB-B252-E0236DF6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143-70A9-494A-AB00-CB52D34D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9C4-BA5F-4E89-9131-6AD06C30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618-0517-4394-B288-3659064D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1E2-2026-4454-84D9-3156ED43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BCC-AFF7-4748-BB76-1FF185B6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02B-C4DC-463B-AA94-21F7D52F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553-112E-42BD-8228-C12F01AB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CFD-5E9A-461D-A219-13C84962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50E-727C-4A0B-B88D-F3A59422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AF1-C126-4A74-A1B8-3F78EA7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9D9-EDA5-4BC1-BDDF-0FC468F0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E2FDF-ABC4-4A3C-BE16-0D8F2AC938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