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52656"/>
        <c:axId val="39110295"/>
      </c:barChart>
      <c:catAx>
        <c:axId val="99752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10295"/>
        <c:crosses val="autoZero"/>
        <c:auto val="1"/>
        <c:lblAlgn val="ctr"/>
        <c:lblOffset val="100"/>
        <c:noMultiLvlLbl val="0"/>
      </c:catAx>
      <c:valAx>
        <c:axId val="39110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52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2FE-3A16-4768-B2FC-FE081B7F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95A-B5BF-4AD6-AB05-DB447F21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68C-B946-4E19-A336-29DA4D40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4D2-897C-4014-B2FA-C5319FB8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63B-6F7F-4EF9-AD3B-ED53D6C8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9E1-A8D9-4D38-8E29-FC036470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59C-EBE9-4772-9C4F-AC46DB48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F72-E475-4B0E-89A5-F3AF6F2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F70-C0EF-4870-AEE7-7F20D790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4A1-EEC3-4E5E-A499-CCD741A9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AD1-7CD5-4686-BE5A-C37B909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B05-0B75-4CDC-8C1A-338123AC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4C4A5-0E87-4001-AB7A-DD79191FBA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