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70681"/>
        <c:axId val="52097543"/>
      </c:barChart>
      <c:catAx>
        <c:axId val="36270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97543"/>
        <c:crosses val="autoZero"/>
        <c:auto val="1"/>
        <c:lblAlgn val="ctr"/>
        <c:lblOffset val="100"/>
        <c:noMultiLvlLbl val="0"/>
      </c:catAx>
      <c:valAx>
        <c:axId val="52097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0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432-0D7D-4F14-A21C-2EE2857F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D2A-634F-4669-9031-30E67E0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1ED-BA2E-45C0-AEB0-A75CEBDC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13C-11A9-4A28-976A-574F5A69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378-C8EA-4587-A060-004D108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03B-281C-4D8E-AED6-5E4EDF5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C59-A410-487F-A492-BA32263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B41-5DB7-409D-BC20-2214ECB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97F-2DD5-4A40-B711-C055A85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2F4-F879-4473-9D4F-41C3CDD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FFE-9AAB-49E3-88F8-1B3CEE0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490-3AC9-4F9C-84CD-14893B70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094B2-396B-4E64-8C12-9EC357ACF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